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BEF-4100-41D4-91C2-38E3C6E1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A52-FD4F-4CB0-95E9-C0F4546E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DE8-EEB9-439A-8AB1-54DAD91F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935-A85B-40C6-BF06-960E41ED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DE7-E993-4EB3-BEE0-6DDF76C0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E34-383E-47E0-A3B7-15FD854A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BCC-417F-491C-9128-5FFAD680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47C-F1A8-4518-B5EE-13460BB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99F-8B9A-4B8E-9BD9-C84CB7ED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8D7-FDEC-41A6-9973-8A716E3F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859-EFCA-46E0-8A15-DD9EFEBE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17D-75F3-4ACF-A61E-0B39AB0A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064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685800"/>
            <a:ext cx="9759600" cy="1052640"/>
            <a:chOff x="0" y="685800"/>
            <a:chExt cx="9759600" cy="1052640"/>
          </a:xfrm>
        </p:grpSpPr>
        <p:grpSp>
          <p:nvGrpSpPr>
            <p:cNvPr id="38" name=""/>
            <p:cNvGrpSpPr/>
            <p:nvPr/>
          </p:nvGrpSpPr>
          <p:grpSpPr>
            <a:xfrm>
              <a:off x="314640" y="793800"/>
              <a:ext cx="770040" cy="474840"/>
              <a:chOff x="314640" y="793800"/>
              <a:chExt cx="770040" cy="474840"/>
            </a:xfrm>
          </p:grpSpPr>
          <p:sp>
            <p:nvSpPr>
              <p:cNvPr id="39" name=""/>
              <p:cNvSpPr/>
              <p:nvPr/>
            </p:nvSpPr>
            <p:spPr>
              <a:xfrm>
                <a:off x="314640" y="793800"/>
                <a:ext cx="4737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29360" y="793800"/>
                <a:ext cx="355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448560" y="1216080"/>
              <a:ext cx="798840" cy="474840"/>
              <a:chOff x="448560" y="1216080"/>
              <a:chExt cx="798840" cy="474840"/>
            </a:xfrm>
          </p:grpSpPr>
          <p:sp>
            <p:nvSpPr>
              <p:cNvPr id="42" name=""/>
              <p:cNvSpPr/>
              <p:nvPr/>
            </p:nvSpPr>
            <p:spPr>
              <a:xfrm>
                <a:off x="448560" y="1216080"/>
                <a:ext cx="456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7800" y="1216080"/>
                <a:ext cx="3996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0" y="1143000"/>
              <a:ext cx="6069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7960" y="685800"/>
              <a:ext cx="3420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42360" y="1508040"/>
              <a:ext cx="941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2800" y="75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1C2-22B1-4C1D-8CA2-80DAA544554F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89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90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97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111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118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125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135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136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143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157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164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171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179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180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187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194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201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208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215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223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224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231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238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245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252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259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65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1896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1903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1904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1911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1918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1925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1932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1939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5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1949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5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1956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1957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1964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971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1978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1985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1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8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2000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2007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2008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2015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1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2022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2029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2036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2051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2058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2059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5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2066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2073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2080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6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2087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2094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100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2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2103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9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2110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2111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2118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4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2125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1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2132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2139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2146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2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2156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2163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2164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2171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7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2178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2185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2192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8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2199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5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2207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2214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2215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2222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2229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2236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2243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2250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6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2258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2265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2266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2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2273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2280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6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2287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3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2301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307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2310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2317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2318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2325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1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2332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2339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5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2346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2353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9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2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2363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2370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2371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2378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4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2385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1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2392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5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2406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2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3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2414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2421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2422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8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2429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5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2436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2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2443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9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2450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6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2457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3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4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2465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2472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2473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9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2480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6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2487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3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2494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2501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7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2508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514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268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275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276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283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290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311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321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328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329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336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343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350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357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364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372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379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380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387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394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401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408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415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423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430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431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438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445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452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459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466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72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475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482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483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490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497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504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511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518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4376880" y="87480"/>
            <a:ext cx="936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528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535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536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543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557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564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571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7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579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586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587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594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601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608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615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622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630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637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638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645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652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659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666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79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682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683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690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704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711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718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728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729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736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743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750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757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764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772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773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780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787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794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801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808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4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816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817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824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831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838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845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852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58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861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868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869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876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883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890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897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904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0" name=""/>
          <p:cNvSpPr/>
          <p:nvPr/>
        </p:nvSpPr>
        <p:spPr>
          <a:xfrm>
            <a:off x="4376880" y="87480"/>
            <a:ext cx="936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914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921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922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929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943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950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957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3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965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972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973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980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987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994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1001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1008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1016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1023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1024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1038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1045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1052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1059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65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1068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1075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1076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1083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1090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1097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1104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1111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7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1121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1128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1129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1136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143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1157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0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1172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1179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1180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1187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1194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1208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1215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1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1223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1230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1231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1238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1245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1252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1259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1266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72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1275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1282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1283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1290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1297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1304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1311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1318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1328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1335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1336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1343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350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1357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1364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1371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7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1379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1386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1387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1394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1401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1408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1415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1422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8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1430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6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1437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1438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1445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1452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1459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1466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1473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79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1482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1489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1490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1504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1511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1518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1525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1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1535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1542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1543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1550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557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1564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1571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1578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1586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1593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1594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1601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1608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1615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1622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1629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5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1637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1644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1645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1652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1659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1666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1673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1680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86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>
            <a:off x="18900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423720" y="371520"/>
            <a:ext cx="3848040" cy="2266560"/>
            <a:chOff x="423720" y="371520"/>
            <a:chExt cx="3848040" cy="2266560"/>
          </a:xfrm>
        </p:grpSpPr>
        <p:sp>
          <p:nvSpPr>
            <p:cNvPr id="1689" name=""/>
            <p:cNvSpPr/>
            <p:nvPr/>
          </p:nvSpPr>
          <p:spPr>
            <a:xfrm>
              <a:off x="431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31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31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25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23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28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596880" y="615960"/>
            <a:ext cx="3506400" cy="2193480"/>
            <a:chOff x="596880" y="615960"/>
            <a:chExt cx="3506400" cy="2193480"/>
          </a:xfrm>
        </p:grpSpPr>
        <p:grpSp>
          <p:nvGrpSpPr>
            <p:cNvPr id="1696" name=""/>
            <p:cNvGrpSpPr/>
            <p:nvPr/>
          </p:nvGrpSpPr>
          <p:grpSpPr>
            <a:xfrm>
              <a:off x="596880" y="1039680"/>
              <a:ext cx="3506400" cy="71280"/>
              <a:chOff x="596880" y="1039680"/>
              <a:chExt cx="3506400" cy="71280"/>
            </a:xfrm>
          </p:grpSpPr>
          <p:sp>
            <p:nvSpPr>
              <p:cNvPr id="1697" name=""/>
              <p:cNvSpPr/>
              <p:nvPr/>
            </p:nvSpPr>
            <p:spPr>
              <a:xfrm>
                <a:off x="59688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23696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877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51712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188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79872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596880" y="1463760"/>
              <a:ext cx="3506400" cy="69480"/>
              <a:chOff x="596880" y="1463760"/>
              <a:chExt cx="3506400" cy="69480"/>
            </a:xfrm>
          </p:grpSpPr>
          <p:sp>
            <p:nvSpPr>
              <p:cNvPr id="1704" name=""/>
              <p:cNvSpPr/>
              <p:nvPr/>
            </p:nvSpPr>
            <p:spPr>
              <a:xfrm>
                <a:off x="59688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23696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877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5171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16188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7987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596880" y="1889280"/>
              <a:ext cx="3506400" cy="69480"/>
              <a:chOff x="596880" y="1889280"/>
              <a:chExt cx="3506400" cy="69480"/>
            </a:xfrm>
          </p:grpSpPr>
          <p:sp>
            <p:nvSpPr>
              <p:cNvPr id="1711" name=""/>
              <p:cNvSpPr/>
              <p:nvPr/>
            </p:nvSpPr>
            <p:spPr>
              <a:xfrm>
                <a:off x="59688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23696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877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5171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16188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7987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96880" y="2313000"/>
              <a:ext cx="3506400" cy="71280"/>
              <a:chOff x="596880" y="2313000"/>
              <a:chExt cx="3506400" cy="71280"/>
            </a:xfrm>
          </p:grpSpPr>
          <p:sp>
            <p:nvSpPr>
              <p:cNvPr id="1718" name=""/>
              <p:cNvSpPr/>
              <p:nvPr/>
            </p:nvSpPr>
            <p:spPr>
              <a:xfrm>
                <a:off x="59688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23696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877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51712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16188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79872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596880" y="2738520"/>
              <a:ext cx="3506400" cy="70920"/>
              <a:chOff x="596880" y="2738520"/>
              <a:chExt cx="3506400" cy="70920"/>
            </a:xfrm>
          </p:grpSpPr>
          <p:sp>
            <p:nvSpPr>
              <p:cNvPr id="1725" name=""/>
              <p:cNvSpPr/>
              <p:nvPr/>
            </p:nvSpPr>
            <p:spPr>
              <a:xfrm>
                <a:off x="59688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23696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877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51712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16188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79872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596880" y="615960"/>
              <a:ext cx="3506400" cy="71280"/>
              <a:chOff x="596880" y="615960"/>
              <a:chExt cx="3506400" cy="71280"/>
            </a:xfrm>
          </p:grpSpPr>
          <p:sp>
            <p:nvSpPr>
              <p:cNvPr id="1732" name=""/>
              <p:cNvSpPr/>
              <p:nvPr/>
            </p:nvSpPr>
            <p:spPr>
              <a:xfrm>
                <a:off x="59688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23696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877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51712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16188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79872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8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8900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423720" y="3817800"/>
            <a:ext cx="3848040" cy="2266560"/>
            <a:chOff x="423720" y="3817800"/>
            <a:chExt cx="3848040" cy="2266560"/>
          </a:xfrm>
        </p:grpSpPr>
        <p:sp>
          <p:nvSpPr>
            <p:cNvPr id="1742" name=""/>
            <p:cNvSpPr/>
            <p:nvPr/>
          </p:nvSpPr>
          <p:spPr>
            <a:xfrm>
              <a:off x="431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1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1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5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3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28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596880" y="4062240"/>
            <a:ext cx="3506400" cy="2193480"/>
            <a:chOff x="596880" y="4062240"/>
            <a:chExt cx="3506400" cy="2193480"/>
          </a:xfrm>
        </p:grpSpPr>
        <p:grpSp>
          <p:nvGrpSpPr>
            <p:cNvPr id="1749" name=""/>
            <p:cNvGrpSpPr/>
            <p:nvPr/>
          </p:nvGrpSpPr>
          <p:grpSpPr>
            <a:xfrm>
              <a:off x="596880" y="4485960"/>
              <a:ext cx="3506400" cy="71280"/>
              <a:chOff x="596880" y="4485960"/>
              <a:chExt cx="3506400" cy="71280"/>
            </a:xfrm>
          </p:grpSpPr>
          <p:sp>
            <p:nvSpPr>
              <p:cNvPr id="1750" name=""/>
              <p:cNvSpPr/>
              <p:nvPr/>
            </p:nvSpPr>
            <p:spPr>
              <a:xfrm>
                <a:off x="59688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23696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877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5171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16188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987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596880" y="4910040"/>
              <a:ext cx="3506400" cy="69480"/>
              <a:chOff x="596880" y="4910040"/>
              <a:chExt cx="3506400" cy="69480"/>
            </a:xfrm>
          </p:grpSpPr>
          <p:sp>
            <p:nvSpPr>
              <p:cNvPr id="1757" name=""/>
              <p:cNvSpPr/>
              <p:nvPr/>
            </p:nvSpPr>
            <p:spPr>
              <a:xfrm>
                <a:off x="59688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23696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877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5171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16188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7987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596880" y="5335560"/>
              <a:ext cx="3506400" cy="69480"/>
              <a:chOff x="596880" y="5335560"/>
              <a:chExt cx="3506400" cy="69480"/>
            </a:xfrm>
          </p:grpSpPr>
          <p:sp>
            <p:nvSpPr>
              <p:cNvPr id="1764" name=""/>
              <p:cNvSpPr/>
              <p:nvPr/>
            </p:nvSpPr>
            <p:spPr>
              <a:xfrm>
                <a:off x="59688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23696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877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51712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16188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79872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0" name=""/>
            <p:cNvGrpSpPr/>
            <p:nvPr/>
          </p:nvGrpSpPr>
          <p:grpSpPr>
            <a:xfrm>
              <a:off x="596880" y="5759280"/>
              <a:ext cx="3506400" cy="71280"/>
              <a:chOff x="596880" y="5759280"/>
              <a:chExt cx="3506400" cy="71280"/>
            </a:xfrm>
          </p:grpSpPr>
          <p:sp>
            <p:nvSpPr>
              <p:cNvPr id="1771" name=""/>
              <p:cNvSpPr/>
              <p:nvPr/>
            </p:nvSpPr>
            <p:spPr>
              <a:xfrm>
                <a:off x="59688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23696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877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5171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6188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7987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596880" y="6184800"/>
              <a:ext cx="3506400" cy="70920"/>
              <a:chOff x="596880" y="6184800"/>
              <a:chExt cx="3506400" cy="70920"/>
            </a:xfrm>
          </p:grpSpPr>
          <p:sp>
            <p:nvSpPr>
              <p:cNvPr id="1778" name=""/>
              <p:cNvSpPr/>
              <p:nvPr/>
            </p:nvSpPr>
            <p:spPr>
              <a:xfrm>
                <a:off x="59688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3696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877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51712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16188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79872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596880" y="4062240"/>
              <a:ext cx="3506400" cy="71280"/>
              <a:chOff x="596880" y="4062240"/>
              <a:chExt cx="3506400" cy="71280"/>
            </a:xfrm>
          </p:grpSpPr>
          <p:sp>
            <p:nvSpPr>
              <p:cNvPr id="1785" name=""/>
              <p:cNvSpPr/>
              <p:nvPr/>
            </p:nvSpPr>
            <p:spPr>
              <a:xfrm>
                <a:off x="59688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23696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877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51712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16188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79872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1" name=""/>
          <p:cNvSpPr/>
          <p:nvPr/>
        </p:nvSpPr>
        <p:spPr>
          <a:xfrm>
            <a:off x="524664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5491080" y="371520"/>
            <a:ext cx="3848040" cy="2266560"/>
            <a:chOff x="5491080" y="371520"/>
            <a:chExt cx="3848040" cy="2266560"/>
          </a:xfrm>
        </p:grpSpPr>
        <p:sp>
          <p:nvSpPr>
            <p:cNvPr id="1793" name=""/>
            <p:cNvSpPr/>
            <p:nvPr/>
          </p:nvSpPr>
          <p:spPr>
            <a:xfrm>
              <a:off x="549900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9900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49900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9252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49108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49576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645160" y="615960"/>
            <a:ext cx="3506400" cy="2193480"/>
            <a:chOff x="5645160" y="615960"/>
            <a:chExt cx="3506400" cy="2193480"/>
          </a:xfrm>
        </p:grpSpPr>
        <p:grpSp>
          <p:nvGrpSpPr>
            <p:cNvPr id="1800" name=""/>
            <p:cNvGrpSpPr/>
            <p:nvPr/>
          </p:nvGrpSpPr>
          <p:grpSpPr>
            <a:xfrm>
              <a:off x="5645160" y="1039680"/>
              <a:ext cx="3506400" cy="71280"/>
              <a:chOff x="5645160" y="1039680"/>
              <a:chExt cx="3506400" cy="71280"/>
            </a:xfrm>
          </p:grpSpPr>
          <p:sp>
            <p:nvSpPr>
              <p:cNvPr id="1801" name=""/>
              <p:cNvSpPr/>
              <p:nvPr/>
            </p:nvSpPr>
            <p:spPr>
              <a:xfrm>
                <a:off x="564516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8524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92532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56540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821016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884700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5645160" y="1463760"/>
              <a:ext cx="3506400" cy="69480"/>
              <a:chOff x="5645160" y="1463760"/>
              <a:chExt cx="3506400" cy="69480"/>
            </a:xfrm>
          </p:grpSpPr>
          <p:sp>
            <p:nvSpPr>
              <p:cNvPr id="1808" name=""/>
              <p:cNvSpPr/>
              <p:nvPr/>
            </p:nvSpPr>
            <p:spPr>
              <a:xfrm>
                <a:off x="5645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285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925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565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8210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8847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5645160" y="1889280"/>
              <a:ext cx="3506400" cy="69480"/>
              <a:chOff x="5645160" y="1889280"/>
              <a:chExt cx="3506400" cy="69480"/>
            </a:xfrm>
          </p:grpSpPr>
          <p:sp>
            <p:nvSpPr>
              <p:cNvPr id="1815" name=""/>
              <p:cNvSpPr/>
              <p:nvPr/>
            </p:nvSpPr>
            <p:spPr>
              <a:xfrm>
                <a:off x="5645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285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925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565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8210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8847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5645160" y="2313000"/>
              <a:ext cx="3506400" cy="71280"/>
              <a:chOff x="5645160" y="2313000"/>
              <a:chExt cx="3506400" cy="71280"/>
            </a:xfrm>
          </p:grpSpPr>
          <p:sp>
            <p:nvSpPr>
              <p:cNvPr id="1822" name=""/>
              <p:cNvSpPr/>
              <p:nvPr/>
            </p:nvSpPr>
            <p:spPr>
              <a:xfrm>
                <a:off x="564516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28524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92532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56540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21016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84700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5645160" y="2738520"/>
              <a:ext cx="3506400" cy="70920"/>
              <a:chOff x="5645160" y="2738520"/>
              <a:chExt cx="3506400" cy="70920"/>
            </a:xfrm>
          </p:grpSpPr>
          <p:sp>
            <p:nvSpPr>
              <p:cNvPr id="1829" name=""/>
              <p:cNvSpPr/>
              <p:nvPr/>
            </p:nvSpPr>
            <p:spPr>
              <a:xfrm>
                <a:off x="564516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28524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2532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56540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21016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84700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5645160" y="615960"/>
              <a:ext cx="3506400" cy="71280"/>
              <a:chOff x="5645160" y="615960"/>
              <a:chExt cx="3506400" cy="71280"/>
            </a:xfrm>
          </p:grpSpPr>
          <p:sp>
            <p:nvSpPr>
              <p:cNvPr id="1836" name=""/>
              <p:cNvSpPr/>
              <p:nvPr/>
            </p:nvSpPr>
            <p:spPr>
              <a:xfrm>
                <a:off x="564516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28524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92532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56540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21016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84700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2" name=""/>
          <p:cNvSpPr/>
          <p:nvPr/>
        </p:nvSpPr>
        <p:spPr>
          <a:xfrm>
            <a:off x="524664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5491080" y="3817800"/>
            <a:ext cx="3848040" cy="2266560"/>
            <a:chOff x="5491080" y="3817800"/>
            <a:chExt cx="3848040" cy="2266560"/>
          </a:xfrm>
        </p:grpSpPr>
        <p:sp>
          <p:nvSpPr>
            <p:cNvPr id="1844" name=""/>
            <p:cNvSpPr/>
            <p:nvPr/>
          </p:nvSpPr>
          <p:spPr>
            <a:xfrm>
              <a:off x="549900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49900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49900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49252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49108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49576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5645160" y="4062240"/>
            <a:ext cx="3506400" cy="2193480"/>
            <a:chOff x="5645160" y="4062240"/>
            <a:chExt cx="3506400" cy="2193480"/>
          </a:xfrm>
        </p:grpSpPr>
        <p:grpSp>
          <p:nvGrpSpPr>
            <p:cNvPr id="1851" name=""/>
            <p:cNvGrpSpPr/>
            <p:nvPr/>
          </p:nvGrpSpPr>
          <p:grpSpPr>
            <a:xfrm>
              <a:off x="5645160" y="4485960"/>
              <a:ext cx="3506400" cy="71280"/>
              <a:chOff x="5645160" y="4485960"/>
              <a:chExt cx="3506400" cy="71280"/>
            </a:xfrm>
          </p:grpSpPr>
          <p:sp>
            <p:nvSpPr>
              <p:cNvPr id="1852" name=""/>
              <p:cNvSpPr/>
              <p:nvPr/>
            </p:nvSpPr>
            <p:spPr>
              <a:xfrm>
                <a:off x="5645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285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925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565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210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847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5645160" y="4910040"/>
              <a:ext cx="3506400" cy="69480"/>
              <a:chOff x="5645160" y="4910040"/>
              <a:chExt cx="3506400" cy="69480"/>
            </a:xfrm>
          </p:grpSpPr>
          <p:sp>
            <p:nvSpPr>
              <p:cNvPr id="1859" name=""/>
              <p:cNvSpPr/>
              <p:nvPr/>
            </p:nvSpPr>
            <p:spPr>
              <a:xfrm>
                <a:off x="5645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285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925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565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8210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8847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5" name=""/>
            <p:cNvGrpSpPr/>
            <p:nvPr/>
          </p:nvGrpSpPr>
          <p:grpSpPr>
            <a:xfrm>
              <a:off x="5645160" y="5335560"/>
              <a:ext cx="3506400" cy="69480"/>
              <a:chOff x="5645160" y="5335560"/>
              <a:chExt cx="3506400" cy="69480"/>
            </a:xfrm>
          </p:grpSpPr>
          <p:sp>
            <p:nvSpPr>
              <p:cNvPr id="1866" name=""/>
              <p:cNvSpPr/>
              <p:nvPr/>
            </p:nvSpPr>
            <p:spPr>
              <a:xfrm>
                <a:off x="564516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28524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92532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56540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821016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84700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5645160" y="5759280"/>
              <a:ext cx="3506400" cy="71280"/>
              <a:chOff x="5645160" y="5759280"/>
              <a:chExt cx="3506400" cy="71280"/>
            </a:xfrm>
          </p:grpSpPr>
          <p:sp>
            <p:nvSpPr>
              <p:cNvPr id="1873" name=""/>
              <p:cNvSpPr/>
              <p:nvPr/>
            </p:nvSpPr>
            <p:spPr>
              <a:xfrm>
                <a:off x="5645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285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925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565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8210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8847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5645160" y="6184800"/>
              <a:ext cx="3506400" cy="70920"/>
              <a:chOff x="5645160" y="6184800"/>
              <a:chExt cx="3506400" cy="70920"/>
            </a:xfrm>
          </p:grpSpPr>
          <p:sp>
            <p:nvSpPr>
              <p:cNvPr id="1880" name=""/>
              <p:cNvSpPr/>
              <p:nvPr/>
            </p:nvSpPr>
            <p:spPr>
              <a:xfrm>
                <a:off x="564516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28524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92532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56540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821016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884700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5645160" y="4062240"/>
              <a:ext cx="3506400" cy="71280"/>
              <a:chOff x="5645160" y="4062240"/>
              <a:chExt cx="3506400" cy="71280"/>
            </a:xfrm>
          </p:grpSpPr>
          <p:sp>
            <p:nvSpPr>
              <p:cNvPr id="1887" name=""/>
              <p:cNvSpPr/>
              <p:nvPr/>
            </p:nvSpPr>
            <p:spPr>
              <a:xfrm>
                <a:off x="564516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28524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2532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56540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21016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84700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893" name=""/>
          <p:cNvGraphicFramePr/>
          <p:nvPr/>
        </p:nvGraphicFramePr>
        <p:xfrm>
          <a:off x="46368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3:24:47Z</dcterms:created>
  <dc:creator/>
  <dc:description/>
  <dc:language>en-US</dc:language>
  <cp:lastModifiedBy/>
  <cp:lastPrinted>2001-05-08T06:29:51Z</cp:lastPrinted>
  <dcterms:modified xsi:type="dcterms:W3CDTF">2008-11-25T07:59:14Z</dcterms:modified>
  <cp:revision>110</cp:revision>
  <dc:subject/>
  <dc:title/>
</cp:coreProperties>
</file>