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281-7520-4323-BC18-95C54C52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C0D-AEDB-4742-BF82-34F73246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8FD-3419-4D69-9B38-49DFBC85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E5E-9E6F-4440-A94A-25147D10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4B0-533C-489B-B3AA-392B19C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3FC-31DE-4362-97F0-ABCDB53B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434-DD78-4DE1-B906-8EC5E36D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9B0-A732-4423-84C5-B271D4C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EE6-5FFB-4774-80C7-5AF31F2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08F-05B1-4D25-A2E3-79043D9E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17B-FC57-40AB-8BF1-E47191D6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A3C-4FD5-4A40-A69E-1C7F3C7D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819-A886-4631-8E13-09B8165B02C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1039680"/>
            <a:ext cx="3506400" cy="1344240"/>
            <a:chOff x="587520" y="1039680"/>
            <a:chExt cx="3506400" cy="1344240"/>
          </a:xfrm>
        </p:grpSpPr>
        <p:grpSp>
          <p:nvGrpSpPr>
            <p:cNvPr id="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97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87520" y="2312640"/>
              <a:ext cx="3506400" cy="71280"/>
              <a:chOff x="587520" y="2312640"/>
              <a:chExt cx="3506400" cy="71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752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760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67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077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5252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93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87520" y="4486320"/>
            <a:ext cx="3506400" cy="1344600"/>
            <a:chOff x="587520" y="4486320"/>
            <a:chExt cx="3506400" cy="1344600"/>
          </a:xfrm>
        </p:grpSpPr>
        <p:grpSp>
          <p:nvGrpSpPr>
            <p:cNvPr id="121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122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129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87520" y="5759640"/>
              <a:ext cx="3506400" cy="71280"/>
              <a:chOff x="587520" y="5759640"/>
              <a:chExt cx="3506400" cy="71280"/>
            </a:xfrm>
          </p:grpSpPr>
          <p:sp>
            <p:nvSpPr>
              <p:cNvPr id="143" name=""/>
              <p:cNvSpPr/>
              <p:nvPr/>
            </p:nvSpPr>
            <p:spPr>
              <a:xfrm>
                <a:off x="58752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2760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6768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077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5252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93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5800" y="1039680"/>
            <a:ext cx="3506400" cy="1344240"/>
            <a:chOff x="5635800" y="1039680"/>
            <a:chExt cx="3506400" cy="1344240"/>
          </a:xfrm>
        </p:grpSpPr>
        <p:grpSp>
          <p:nvGrpSpPr>
            <p:cNvPr id="15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635800" y="2312640"/>
              <a:ext cx="3506400" cy="71280"/>
              <a:chOff x="5635800" y="2312640"/>
              <a:chExt cx="3506400" cy="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563580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7588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159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5560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0080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8376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635800" y="4486320"/>
            <a:ext cx="3506400" cy="1344600"/>
            <a:chOff x="5635800" y="4486320"/>
            <a:chExt cx="3506400" cy="1344600"/>
          </a:xfrm>
        </p:grpSpPr>
        <p:grpSp>
          <p:nvGrpSpPr>
            <p:cNvPr id="181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189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635800" y="5759640"/>
              <a:ext cx="3506400" cy="71280"/>
              <a:chOff x="5635800" y="5759640"/>
              <a:chExt cx="3506400" cy="71280"/>
            </a:xfrm>
          </p:grpSpPr>
          <p:sp>
            <p:nvSpPr>
              <p:cNvPr id="203" name=""/>
              <p:cNvSpPr/>
              <p:nvPr/>
            </p:nvSpPr>
            <p:spPr>
              <a:xfrm>
                <a:off x="563580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7588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159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560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0080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76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308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313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320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327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334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343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34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36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369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377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382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389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396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403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5483160" y="4243320"/>
            <a:ext cx="3846600" cy="1415880"/>
            <a:chOff x="5483160" y="4243320"/>
            <a:chExt cx="3846600" cy="1415880"/>
          </a:xfrm>
        </p:grpSpPr>
        <p:sp>
          <p:nvSpPr>
            <p:cNvPr id="1411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416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423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6" name=""/>
          <p:cNvGrpSpPr/>
          <p:nvPr/>
        </p:nvGrpSpPr>
        <p:grpSpPr>
          <a:xfrm>
            <a:off x="5635800" y="5759280"/>
            <a:ext cx="3506400" cy="71280"/>
            <a:chOff x="5635800" y="5759280"/>
            <a:chExt cx="3506400" cy="71280"/>
          </a:xfrm>
        </p:grpSpPr>
        <p:sp>
          <p:nvSpPr>
            <p:cNvPr id="1437" name=""/>
            <p:cNvSpPr/>
            <p:nvPr/>
          </p:nvSpPr>
          <p:spPr>
            <a:xfrm>
              <a:off x="5635800" y="57607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75880" y="57592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91596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5560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00800" y="57592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8376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447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1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452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459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466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473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9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482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494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501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508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516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521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528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542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550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555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569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576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22280" y="79704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22280" y="122076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22280" y="164628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15800" y="207000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587520" y="1039680"/>
            <a:ext cx="3506400" cy="71280"/>
            <a:chOff x="587520" y="1039680"/>
            <a:chExt cx="3506400" cy="71280"/>
          </a:xfrm>
        </p:grpSpPr>
        <p:sp>
          <p:nvSpPr>
            <p:cNvPr id="1590" name=""/>
            <p:cNvSpPr/>
            <p:nvPr/>
          </p:nvSpPr>
          <p:spPr>
            <a:xfrm>
              <a:off x="58752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2760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86768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077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15252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893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87520" y="1463760"/>
            <a:ext cx="3506400" cy="69480"/>
            <a:chOff x="587520" y="1463760"/>
            <a:chExt cx="3506400" cy="69480"/>
          </a:xfrm>
        </p:grpSpPr>
        <p:sp>
          <p:nvSpPr>
            <p:cNvPr id="1597" name=""/>
            <p:cNvSpPr/>
            <p:nvPr/>
          </p:nvSpPr>
          <p:spPr>
            <a:xfrm>
              <a:off x="58752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22760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86768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077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15252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7893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587520" y="1889280"/>
            <a:ext cx="3506400" cy="69480"/>
            <a:chOff x="587520" y="1889280"/>
            <a:chExt cx="3506400" cy="69480"/>
          </a:xfrm>
        </p:grpSpPr>
        <p:sp>
          <p:nvSpPr>
            <p:cNvPr id="1604" name=""/>
            <p:cNvSpPr/>
            <p:nvPr/>
          </p:nvSpPr>
          <p:spPr>
            <a:xfrm>
              <a:off x="58752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2760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6768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5077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252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893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87520" y="2313000"/>
            <a:ext cx="3506400" cy="71280"/>
            <a:chOff x="587520" y="2313000"/>
            <a:chExt cx="3506400" cy="71280"/>
          </a:xfrm>
        </p:grpSpPr>
        <p:sp>
          <p:nvSpPr>
            <p:cNvPr id="1611" name=""/>
            <p:cNvSpPr/>
            <p:nvPr/>
          </p:nvSpPr>
          <p:spPr>
            <a:xfrm>
              <a:off x="587520" y="231444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27600" y="231300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86768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077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152520" y="231300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893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620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625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632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639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646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489640" y="79704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489640" y="122076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489640" y="164628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483160" y="207000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5635800" y="1039680"/>
            <a:ext cx="3506400" cy="71280"/>
            <a:chOff x="5635800" y="1039680"/>
            <a:chExt cx="3506400" cy="71280"/>
          </a:xfrm>
        </p:grpSpPr>
        <p:sp>
          <p:nvSpPr>
            <p:cNvPr id="1658" name=""/>
            <p:cNvSpPr/>
            <p:nvPr/>
          </p:nvSpPr>
          <p:spPr>
            <a:xfrm>
              <a:off x="563580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7588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159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560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0080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8376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5635800" y="1463760"/>
            <a:ext cx="3506400" cy="69480"/>
            <a:chOff x="5635800" y="1463760"/>
            <a:chExt cx="3506400" cy="69480"/>
          </a:xfrm>
        </p:grpSpPr>
        <p:sp>
          <p:nvSpPr>
            <p:cNvPr id="1665" name=""/>
            <p:cNvSpPr/>
            <p:nvPr/>
          </p:nvSpPr>
          <p:spPr>
            <a:xfrm>
              <a:off x="563580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27588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9159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560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0080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376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635800" y="1889280"/>
            <a:ext cx="3506400" cy="69480"/>
            <a:chOff x="5635800" y="1889280"/>
            <a:chExt cx="3506400" cy="69480"/>
          </a:xfrm>
        </p:grpSpPr>
        <p:sp>
          <p:nvSpPr>
            <p:cNvPr id="1672" name=""/>
            <p:cNvSpPr/>
            <p:nvPr/>
          </p:nvSpPr>
          <p:spPr>
            <a:xfrm>
              <a:off x="563580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7588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159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560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20080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8376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635800" y="2313000"/>
            <a:ext cx="3506400" cy="71280"/>
            <a:chOff x="5635800" y="2313000"/>
            <a:chExt cx="3506400" cy="71280"/>
          </a:xfrm>
        </p:grpSpPr>
        <p:sp>
          <p:nvSpPr>
            <p:cNvPr id="1679" name=""/>
            <p:cNvSpPr/>
            <p:nvPr/>
          </p:nvSpPr>
          <p:spPr>
            <a:xfrm>
              <a:off x="5635800" y="231444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75880" y="231300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159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5604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200800" y="231300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83764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687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692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699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706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713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212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217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231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238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24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25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25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273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281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286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293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300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307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31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32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341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351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363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370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377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38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39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39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40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412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420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425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432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439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446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454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45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46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47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480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87520" y="1039680"/>
            <a:ext cx="3506400" cy="1344240"/>
            <a:chOff x="587520" y="1039680"/>
            <a:chExt cx="3506400" cy="1344240"/>
          </a:xfrm>
        </p:grpSpPr>
        <p:grpSp>
          <p:nvGrpSpPr>
            <p:cNvPr id="490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491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505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87520" y="2312640"/>
              <a:ext cx="3506400" cy="71280"/>
              <a:chOff x="587520" y="2312640"/>
              <a:chExt cx="3506400" cy="71280"/>
            </a:xfrm>
          </p:grpSpPr>
          <p:sp>
            <p:nvSpPr>
              <p:cNvPr id="512" name=""/>
              <p:cNvSpPr/>
              <p:nvPr/>
            </p:nvSpPr>
            <p:spPr>
              <a:xfrm>
                <a:off x="58752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2760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67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5077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5252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893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7520" y="4486320"/>
            <a:ext cx="3506400" cy="1344600"/>
            <a:chOff x="587520" y="4486320"/>
            <a:chExt cx="3506400" cy="1344600"/>
          </a:xfrm>
        </p:grpSpPr>
        <p:grpSp>
          <p:nvGrpSpPr>
            <p:cNvPr id="521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522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529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87520" y="5759640"/>
              <a:ext cx="3506400" cy="71280"/>
              <a:chOff x="587520" y="5759640"/>
              <a:chExt cx="3506400" cy="71280"/>
            </a:xfrm>
          </p:grpSpPr>
          <p:sp>
            <p:nvSpPr>
              <p:cNvPr id="543" name=""/>
              <p:cNvSpPr/>
              <p:nvPr/>
            </p:nvSpPr>
            <p:spPr>
              <a:xfrm>
                <a:off x="58752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2760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768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77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5252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893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635800" y="1039680"/>
            <a:ext cx="3506400" cy="1344240"/>
            <a:chOff x="5635800" y="1039680"/>
            <a:chExt cx="3506400" cy="1344240"/>
          </a:xfrm>
        </p:grpSpPr>
        <p:grpSp>
          <p:nvGrpSpPr>
            <p:cNvPr id="55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55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55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56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635800" y="2312640"/>
              <a:ext cx="3506400" cy="71280"/>
              <a:chOff x="5635800" y="2312640"/>
              <a:chExt cx="3506400" cy="71280"/>
            </a:xfrm>
          </p:grpSpPr>
          <p:sp>
            <p:nvSpPr>
              <p:cNvPr id="573" name=""/>
              <p:cNvSpPr/>
              <p:nvPr/>
            </p:nvSpPr>
            <p:spPr>
              <a:xfrm>
                <a:off x="563580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7588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59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560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0080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8376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635800" y="4486320"/>
            <a:ext cx="3506400" cy="1344600"/>
            <a:chOff x="5635800" y="4486320"/>
            <a:chExt cx="3506400" cy="1344600"/>
          </a:xfrm>
        </p:grpSpPr>
        <p:grpSp>
          <p:nvGrpSpPr>
            <p:cNvPr id="581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582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589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596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635800" y="5759640"/>
              <a:ext cx="3506400" cy="71280"/>
              <a:chOff x="5635800" y="5759640"/>
              <a:chExt cx="3506400" cy="71280"/>
            </a:xfrm>
          </p:grpSpPr>
          <p:sp>
            <p:nvSpPr>
              <p:cNvPr id="603" name=""/>
              <p:cNvSpPr/>
              <p:nvPr/>
            </p:nvSpPr>
            <p:spPr>
              <a:xfrm>
                <a:off x="563580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7588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159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560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0080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8376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613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618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625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632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639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648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653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660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667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674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682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687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694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701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708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71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721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728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742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4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752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757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764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771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778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78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79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79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813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821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833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840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483160" y="4243320"/>
            <a:ext cx="3846600" cy="1415880"/>
            <a:chOff x="5483160" y="4243320"/>
            <a:chExt cx="3846600" cy="1415880"/>
          </a:xfrm>
        </p:grpSpPr>
        <p:sp>
          <p:nvSpPr>
            <p:cNvPr id="85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86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86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87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"/>
          <p:cNvGrpSpPr/>
          <p:nvPr/>
        </p:nvGrpSpPr>
        <p:grpSpPr>
          <a:xfrm>
            <a:off x="5635800" y="5759280"/>
            <a:ext cx="3506400" cy="71280"/>
            <a:chOff x="5635800" y="5759280"/>
            <a:chExt cx="3506400" cy="71280"/>
          </a:xfrm>
        </p:grpSpPr>
        <p:sp>
          <p:nvSpPr>
            <p:cNvPr id="881" name=""/>
            <p:cNvSpPr/>
            <p:nvPr/>
          </p:nvSpPr>
          <p:spPr>
            <a:xfrm>
              <a:off x="5635800" y="57607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75880" y="57592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1596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560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00800" y="57592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8376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891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896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903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910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917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92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93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93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94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952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960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965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972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979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986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994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99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020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6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030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035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042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049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065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070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091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099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104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111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118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133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138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145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4357800" y="158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169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181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195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20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209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216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223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6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238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243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257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264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0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272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277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284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291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298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59:02Z</dcterms:modified>
  <cp:revision>112</cp:revision>
  <dc:subject/>
  <dc:title/>
</cp:coreProperties>
</file>