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442-5704-48E5-A69E-6E005521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5A1-01F6-4A82-B290-0799896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447-B0E7-4715-ABCF-D4CDF20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C9B-0612-41F5-9746-1C8E74B5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853-DA52-49EA-A767-A5A20D9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B41-AEFF-45D4-9C82-ECECB123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99D-1191-46E6-AC2D-71AB5E0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C70-387F-4BD7-B99E-7A51213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FFF-B211-4915-A144-4FF2414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D83-C37F-4DCD-A036-B20250C4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725-2A6E-4A13-BA43-49A9CB6B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A7E-FAAE-4C63-B18E-85B02123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1260-4F84-47DC-82A7-BC857972A209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7520" y="1039680"/>
            <a:ext cx="3506400" cy="71280"/>
            <a:chOff x="587520" y="1039680"/>
            <a:chExt cx="3506400" cy="71280"/>
          </a:xfrm>
        </p:grpSpPr>
        <p:sp>
          <p:nvSpPr>
            <p:cNvPr id="89" name=""/>
            <p:cNvSpPr/>
            <p:nvPr/>
          </p:nvSpPr>
          <p:spPr>
            <a:xfrm>
              <a:off x="58752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760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6768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77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252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93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87520" y="1463760"/>
            <a:ext cx="3506400" cy="69480"/>
            <a:chOff x="587520" y="1463760"/>
            <a:chExt cx="3506400" cy="69480"/>
          </a:xfrm>
        </p:grpSpPr>
        <p:sp>
          <p:nvSpPr>
            <p:cNvPr id="96" name=""/>
            <p:cNvSpPr/>
            <p:nvPr/>
          </p:nvSpPr>
          <p:spPr>
            <a:xfrm>
              <a:off x="58752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760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768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77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5252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93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520" y="1889280"/>
            <a:ext cx="3506400" cy="69480"/>
            <a:chOff x="587520" y="1889280"/>
            <a:chExt cx="3506400" cy="69480"/>
          </a:xfrm>
        </p:grpSpPr>
        <p:sp>
          <p:nvSpPr>
            <p:cNvPr id="103" name=""/>
            <p:cNvSpPr/>
            <p:nvPr/>
          </p:nvSpPr>
          <p:spPr>
            <a:xfrm>
              <a:off x="58752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2760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768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77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5252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93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87520" y="4486320"/>
            <a:ext cx="3506400" cy="71280"/>
            <a:chOff x="587520" y="4486320"/>
            <a:chExt cx="3506400" cy="71280"/>
          </a:xfrm>
        </p:grpSpPr>
        <p:sp>
          <p:nvSpPr>
            <p:cNvPr id="113" name=""/>
            <p:cNvSpPr/>
            <p:nvPr/>
          </p:nvSpPr>
          <p:spPr>
            <a:xfrm>
              <a:off x="587520" y="448776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27600" y="448632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768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776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52520" y="448632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936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7520" y="4910040"/>
            <a:ext cx="3506400" cy="69480"/>
            <a:chOff x="587520" y="4910040"/>
            <a:chExt cx="3506400" cy="69480"/>
          </a:xfrm>
        </p:grpSpPr>
        <p:sp>
          <p:nvSpPr>
            <p:cNvPr id="120" name=""/>
            <p:cNvSpPr/>
            <p:nvPr/>
          </p:nvSpPr>
          <p:spPr>
            <a:xfrm>
              <a:off x="587520" y="491112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27600" y="491004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768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776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52520" y="491004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8936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7520" y="5335560"/>
            <a:ext cx="3506400" cy="69480"/>
            <a:chOff x="587520" y="5335560"/>
            <a:chExt cx="3506400" cy="69480"/>
          </a:xfrm>
        </p:grpSpPr>
        <p:sp>
          <p:nvSpPr>
            <p:cNvPr id="127" name=""/>
            <p:cNvSpPr/>
            <p:nvPr/>
          </p:nvSpPr>
          <p:spPr>
            <a:xfrm>
              <a:off x="587520" y="53366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7600" y="53355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6768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776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52520" y="53355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936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35800" y="1039680"/>
            <a:ext cx="3506400" cy="71280"/>
            <a:chOff x="5635800" y="1039680"/>
            <a:chExt cx="3506400" cy="71280"/>
          </a:xfrm>
        </p:grpSpPr>
        <p:sp>
          <p:nvSpPr>
            <p:cNvPr id="135" name=""/>
            <p:cNvSpPr/>
            <p:nvPr/>
          </p:nvSpPr>
          <p:spPr>
            <a:xfrm>
              <a:off x="563580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588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159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60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0080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376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35800" y="1463760"/>
            <a:ext cx="3506400" cy="69480"/>
            <a:chOff x="5635800" y="1463760"/>
            <a:chExt cx="3506400" cy="69480"/>
          </a:xfrm>
        </p:grpSpPr>
        <p:sp>
          <p:nvSpPr>
            <p:cNvPr id="142" name=""/>
            <p:cNvSpPr/>
            <p:nvPr/>
          </p:nvSpPr>
          <p:spPr>
            <a:xfrm>
              <a:off x="563580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7588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59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560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0080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376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635800" y="1889280"/>
            <a:ext cx="3506400" cy="69480"/>
            <a:chOff x="5635800" y="1889280"/>
            <a:chExt cx="3506400" cy="69480"/>
          </a:xfrm>
        </p:grpSpPr>
        <p:sp>
          <p:nvSpPr>
            <p:cNvPr id="149" name=""/>
            <p:cNvSpPr/>
            <p:nvPr/>
          </p:nvSpPr>
          <p:spPr>
            <a:xfrm>
              <a:off x="563580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588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59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560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080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376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35800" y="4486320"/>
            <a:ext cx="3506400" cy="71280"/>
            <a:chOff x="5635800" y="4486320"/>
            <a:chExt cx="3506400" cy="71280"/>
          </a:xfrm>
        </p:grpSpPr>
        <p:sp>
          <p:nvSpPr>
            <p:cNvPr id="157" name=""/>
            <p:cNvSpPr/>
            <p:nvPr/>
          </p:nvSpPr>
          <p:spPr>
            <a:xfrm>
              <a:off x="5635800" y="448776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75880" y="448632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1596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5604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0800" y="448632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3764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35800" y="4910040"/>
            <a:ext cx="3506400" cy="69480"/>
            <a:chOff x="5635800" y="4910040"/>
            <a:chExt cx="3506400" cy="69480"/>
          </a:xfrm>
        </p:grpSpPr>
        <p:sp>
          <p:nvSpPr>
            <p:cNvPr id="164" name=""/>
            <p:cNvSpPr/>
            <p:nvPr/>
          </p:nvSpPr>
          <p:spPr>
            <a:xfrm>
              <a:off x="5635800" y="491112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75880" y="491004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596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604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0800" y="491004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3764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635800" y="5335560"/>
            <a:ext cx="3506400" cy="69480"/>
            <a:chOff x="5635800" y="5335560"/>
            <a:chExt cx="3506400" cy="69480"/>
          </a:xfrm>
        </p:grpSpPr>
        <p:sp>
          <p:nvSpPr>
            <p:cNvPr id="171" name=""/>
            <p:cNvSpPr/>
            <p:nvPr/>
          </p:nvSpPr>
          <p:spPr>
            <a:xfrm>
              <a:off x="5635800" y="53366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5880" y="53355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596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604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00800" y="53355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3764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024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028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035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042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1051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069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5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1077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1088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1095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1103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121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7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131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135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142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149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1158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162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169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176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2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1184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1188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1195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1202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1210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214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228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4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238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242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249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256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1265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269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276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283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1291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1295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1302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1309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1317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328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335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1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80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84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20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21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233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244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259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287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291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298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305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314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318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325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332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340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344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351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366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37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37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38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87520" y="1039680"/>
            <a:ext cx="3506400" cy="918720"/>
            <a:chOff x="587520" y="1039680"/>
            <a:chExt cx="3506400" cy="918720"/>
          </a:xfrm>
        </p:grpSpPr>
        <p:grpSp>
          <p:nvGrpSpPr>
            <p:cNvPr id="394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395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87520" y="1463400"/>
              <a:ext cx="3506400" cy="69480"/>
              <a:chOff x="587520" y="1463400"/>
              <a:chExt cx="3506400" cy="6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58752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2760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6768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077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5252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893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87520" y="1888920"/>
              <a:ext cx="3506400" cy="69480"/>
              <a:chOff x="587520" y="1888920"/>
              <a:chExt cx="3506400" cy="69480"/>
            </a:xfrm>
          </p:grpSpPr>
          <p:sp>
            <p:nvSpPr>
              <p:cNvPr id="409" name=""/>
              <p:cNvSpPr/>
              <p:nvPr/>
            </p:nvSpPr>
            <p:spPr>
              <a:xfrm>
                <a:off x="58752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2760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6768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077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5252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893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87520" y="4486320"/>
            <a:ext cx="3506400" cy="918720"/>
            <a:chOff x="587520" y="4486320"/>
            <a:chExt cx="3506400" cy="918720"/>
          </a:xfrm>
        </p:grpSpPr>
        <p:grpSp>
          <p:nvGrpSpPr>
            <p:cNvPr id="418" name=""/>
            <p:cNvGrpSpPr/>
            <p:nvPr/>
          </p:nvGrpSpPr>
          <p:grpSpPr>
            <a:xfrm>
              <a:off x="587520" y="4486320"/>
              <a:ext cx="3506400" cy="71280"/>
              <a:chOff x="587520" y="4486320"/>
              <a:chExt cx="3506400" cy="71280"/>
            </a:xfrm>
          </p:grpSpPr>
          <p:sp>
            <p:nvSpPr>
              <p:cNvPr id="419" name=""/>
              <p:cNvSpPr/>
              <p:nvPr/>
            </p:nvSpPr>
            <p:spPr>
              <a:xfrm>
                <a:off x="58752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760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768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077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5252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893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7520" y="4910400"/>
              <a:ext cx="3506400" cy="69480"/>
              <a:chOff x="587520" y="4910400"/>
              <a:chExt cx="3506400" cy="69480"/>
            </a:xfrm>
          </p:grpSpPr>
          <p:sp>
            <p:nvSpPr>
              <p:cNvPr id="426" name=""/>
              <p:cNvSpPr/>
              <p:nvPr/>
            </p:nvSpPr>
            <p:spPr>
              <a:xfrm>
                <a:off x="58752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2760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6768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077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5252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893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635800" y="1039680"/>
            <a:ext cx="3506400" cy="918720"/>
            <a:chOff x="5635800" y="1039680"/>
            <a:chExt cx="3506400" cy="918720"/>
          </a:xfrm>
        </p:grpSpPr>
        <p:grpSp>
          <p:nvGrpSpPr>
            <p:cNvPr id="44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44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635800" y="1463400"/>
              <a:ext cx="3506400" cy="69480"/>
              <a:chOff x="5635800" y="1463400"/>
              <a:chExt cx="3506400" cy="69480"/>
            </a:xfrm>
          </p:grpSpPr>
          <p:sp>
            <p:nvSpPr>
              <p:cNvPr id="449" name=""/>
              <p:cNvSpPr/>
              <p:nvPr/>
            </p:nvSpPr>
            <p:spPr>
              <a:xfrm>
                <a:off x="563580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588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159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5560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0080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8376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635800" y="1888920"/>
              <a:ext cx="3506400" cy="69480"/>
              <a:chOff x="5635800" y="1888920"/>
              <a:chExt cx="3506400" cy="6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63580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7588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159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560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0080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8376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635800" y="4486320"/>
            <a:ext cx="3506400" cy="918720"/>
            <a:chOff x="5635800" y="4486320"/>
            <a:chExt cx="3506400" cy="918720"/>
          </a:xfrm>
        </p:grpSpPr>
        <p:grpSp>
          <p:nvGrpSpPr>
            <p:cNvPr id="464" name=""/>
            <p:cNvGrpSpPr/>
            <p:nvPr/>
          </p:nvGrpSpPr>
          <p:grpSpPr>
            <a:xfrm>
              <a:off x="5635800" y="4486320"/>
              <a:ext cx="3506400" cy="71280"/>
              <a:chOff x="5635800" y="4486320"/>
              <a:chExt cx="3506400" cy="71280"/>
            </a:xfrm>
          </p:grpSpPr>
          <p:sp>
            <p:nvSpPr>
              <p:cNvPr id="465" name=""/>
              <p:cNvSpPr/>
              <p:nvPr/>
            </p:nvSpPr>
            <p:spPr>
              <a:xfrm>
                <a:off x="563580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7588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159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560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0080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8376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635800" y="4910400"/>
              <a:ext cx="3506400" cy="69480"/>
              <a:chOff x="5635800" y="4910400"/>
              <a:chExt cx="3506400" cy="69480"/>
            </a:xfrm>
          </p:grpSpPr>
          <p:sp>
            <p:nvSpPr>
              <p:cNvPr id="472" name=""/>
              <p:cNvSpPr/>
              <p:nvPr/>
            </p:nvSpPr>
            <p:spPr>
              <a:xfrm>
                <a:off x="563580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7588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159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5560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0080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8376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489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500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516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520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527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534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542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546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560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568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579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586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596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600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614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623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627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634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641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649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653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660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667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675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686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693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703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707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714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721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730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734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741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748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4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756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760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767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774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782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786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793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800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810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814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821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828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83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84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84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85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1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863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867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874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881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7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889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893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900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3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917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921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928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935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944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948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955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962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970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974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981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996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00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01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0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8-11-25T07:44:27Z</dcterms:modified>
  <cp:revision>114</cp:revision>
  <dc:subject/>
  <dc:title/>
</cp:coreProperties>
</file>